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11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83BA-4415-4889-99DA-C834C03AE7F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2610-7183-48E0-8AC3-D0E4AF1722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4F040-7FD7-4A76-9DBB-9B961C9F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95B1-8B5D-4F28-A751-AC578094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825A-6933-4C70-8CCF-A20EF4A3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6D8D-6C0B-4E73-B80C-F970A7B9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D89E-6B5F-4D3A-A398-DDC50FDA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6BE9-06CD-4305-B785-41D88B86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7AE6-DCBB-4C91-B93D-658EBCC2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46DD-DC09-4B8A-993A-67F71EFE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95CE-82F0-4EA4-89AE-659BF93F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DA6F-E88D-45B5-AC4F-6AEF19F4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5726-DED7-4B4E-B82C-E12DC05C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7D00-9E10-4B5E-AF74-7FAE09E6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D18C-0E41-49C5-8497-BA1800E1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47EE-BC3D-4D0F-A3AD-BDE5CC55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2927-1880-4AA3-9AE7-B9DD33C2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C942-A5F9-4AF4-8B0D-611E20CD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C3DE-806F-428B-A5DD-65642555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3CF9-4C1D-4BB1-B250-387EF8FA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5539-4C24-4E09-8EB0-616C50A8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96CA-F2B8-4098-95B2-5E8C9E1A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1D32-C068-4B12-9B69-1AE21DA6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F580-B92F-4B39-B940-14F97EDD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C7CE-4928-43B3-8175-FD35F8C0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E54B-E560-4CDF-9847-9DBD80FA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B5E2-F47F-41FB-B869-5D56EEC8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7C72-3841-41D0-8B50-DA9C55B817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13"/>
          <p:cNvSpPr/>
          <p:nvPr/>
        </p:nvSpPr>
        <p:spPr>
          <a:xfrm>
            <a:off x="552600" y="117360"/>
            <a:ext cx="6264000" cy="1656000"/>
          </a:xfrm>
          <a:prstGeom prst="roundRect">
            <a:avLst>
              <a:gd name="adj" fmla="val 16667"/>
            </a:avLst>
          </a:prstGeom>
          <a:solidFill>
            <a:srgbClr val="ef8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439560" y="318960"/>
            <a:ext cx="64882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514"/>
                </a:solidFill>
                <a:latin typeface="Browallia New"/>
                <a:ea typeface="Browallia New"/>
              </a:rPr>
              <a:t>UNIT ONE WHY ARE YOU SO HAPPY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835280" y="2060640"/>
            <a:ext cx="70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514"/>
                </a:solidFill>
                <a:latin typeface="Broadway"/>
              </a:rPr>
              <a:t>Lesson 2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1"/>
          <a:stretch/>
        </p:blipFill>
        <p:spPr>
          <a:xfrm>
            <a:off x="5078520" y="3041640"/>
            <a:ext cx="3479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ppy------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 so happ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gry------She is so ang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red------He is so ti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d--------You look so s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你能表演出各种表情，让大家猜么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ctur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. back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回来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2. no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现在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3. surprise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惊喜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eling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rprised ------ Why does he so surpris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吃惊，惊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9f2f070828381f300532957ca8014c086e06f038"/>
          <p:cNvPicPr/>
          <p:nvPr/>
        </p:nvPicPr>
        <p:blipFill>
          <a:blip r:embed="rId1"/>
          <a:stretch/>
        </p:blipFill>
        <p:spPr>
          <a:xfrm>
            <a:off x="990720" y="2819520"/>
            <a:ext cx="63500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e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ited------ Why do they so exci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兴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u=3051539883,420250629&amp;fm=23&amp;gp=0"/>
          <p:cNvPicPr/>
          <p:nvPr/>
        </p:nvPicPr>
        <p:blipFill>
          <a:blip r:embed="rId1"/>
          <a:stretch/>
        </p:blipFill>
        <p:spPr>
          <a:xfrm>
            <a:off x="2438280" y="3048120"/>
            <a:ext cx="3810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换一个词，换一个意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Why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do yo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ook so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my do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is miss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does h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s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surprise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ecause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e gol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missin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do the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s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excite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ecau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ey will go to the zo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, t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    re(er)    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, Surpri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r  p   ri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拼一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u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, What does Lingling feel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gling is ups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, Why does Lingling feels s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her watch is miss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902397dda144ad34827d2360d1a20cf430ad8513"/>
          <p:cNvPicPr/>
          <p:nvPr/>
        </p:nvPicPr>
        <p:blipFill>
          <a:blip r:embed="rId1"/>
          <a:stretch/>
        </p:blipFill>
        <p:spPr>
          <a:xfrm>
            <a:off x="54864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066680" y="1371600"/>
            <a:ext cx="7010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单词五英一中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抄写课文一英一中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并熟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家长签字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reason(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原因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) we happy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, Because we are back at scho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, Because I like scho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, Because we have new boo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, Because books are co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, Because I can play with my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od (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情感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ppy    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 so happ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快乐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gry     She is so ang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生气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red      He is so t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疲劳，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换一个词，换一个意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is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o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angr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the room is messy (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,  Why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is 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o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ir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he played too hard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（太猛了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es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说说这是什么感受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hotboy_vtdd912z"/>
          <p:cNvPicPr/>
          <p:nvPr/>
        </p:nvPicPr>
        <p:blipFill>
          <a:blip r:embed="rId1"/>
          <a:stretch/>
        </p:blipFill>
        <p:spPr>
          <a:xfrm>
            <a:off x="152280" y="243828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0d338744ebf81a4c7b43f81cd62a6059242da6f5"/>
          <p:cNvPicPr/>
          <p:nvPr/>
        </p:nvPicPr>
        <p:blipFill>
          <a:blip r:embed="rId2"/>
          <a:stretch/>
        </p:blipFill>
        <p:spPr>
          <a:xfrm>
            <a:off x="1981080" y="2438280"/>
            <a:ext cx="1930680" cy="137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0080528142814919"/>
          <p:cNvPicPr/>
          <p:nvPr/>
        </p:nvPicPr>
        <p:blipFill>
          <a:blip r:embed="rId3"/>
          <a:stretch/>
        </p:blipFill>
        <p:spPr>
          <a:xfrm>
            <a:off x="4419720" y="2057400"/>
            <a:ext cx="199368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40624385_cfbad0b5c2_b-vi"/>
          <p:cNvPicPr/>
          <p:nvPr/>
        </p:nvPicPr>
        <p:blipFill>
          <a:blip r:embed="rId4"/>
          <a:stretch/>
        </p:blipFill>
        <p:spPr>
          <a:xfrm>
            <a:off x="6553080" y="22860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u=426840771,4097698302&amp;fm=23&amp;gp=0"/>
          <p:cNvPicPr/>
          <p:nvPr/>
        </p:nvPicPr>
        <p:blipFill>
          <a:blip r:embed="rId5"/>
          <a:stretch/>
        </p:blipFill>
        <p:spPr>
          <a:xfrm>
            <a:off x="2971800" y="49719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u=1010978583,3281398811&amp;fm=23&amp;gp=0"/>
          <p:cNvPicPr/>
          <p:nvPr/>
        </p:nvPicPr>
        <p:blipFill>
          <a:blip r:embed="rId6"/>
          <a:srcRect l="0" t="0" r="0" b="13165"/>
          <a:stretch/>
        </p:blipFill>
        <p:spPr>
          <a:xfrm>
            <a:off x="2057400" y="2895480"/>
            <a:ext cx="4352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说说你会有什么感受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y pencil is lost (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丢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play football in the afterno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,   I make (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交了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 new frie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,   I have too much (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太多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home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,   I hit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（被打）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y moc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u=213327935,3829967245&amp;fm=56"/>
          <p:cNvPicPr/>
          <p:nvPr/>
        </p:nvPicPr>
        <p:blipFill>
          <a:blip r:embed="rId1"/>
          <a:stretch/>
        </p:blipFill>
        <p:spPr>
          <a:xfrm>
            <a:off x="6019920" y="16765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u=202556747,357271851&amp;fm=56"/>
          <p:cNvPicPr/>
          <p:nvPr/>
        </p:nvPicPr>
        <p:blipFill>
          <a:blip r:embed="rId2"/>
          <a:stretch/>
        </p:blipFill>
        <p:spPr>
          <a:xfrm>
            <a:off x="6629400" y="2743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7938725_125442617163_2"/>
          <p:cNvPicPr/>
          <p:nvPr/>
        </p:nvPicPr>
        <p:blipFill>
          <a:blip r:embed="rId3"/>
          <a:stretch/>
        </p:blipFill>
        <p:spPr>
          <a:xfrm>
            <a:off x="5638680" y="3505320"/>
            <a:ext cx="833400" cy="83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u=202556747,357271851&amp;fm=56"/>
          <p:cNvPicPr/>
          <p:nvPr/>
        </p:nvPicPr>
        <p:blipFill>
          <a:blip r:embed="rId4"/>
          <a:stretch/>
        </p:blipFill>
        <p:spPr>
          <a:xfrm>
            <a:off x="6705720" y="4343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u=213327935,3829967245&amp;fm=56"/>
          <p:cNvPicPr/>
          <p:nvPr/>
        </p:nvPicPr>
        <p:blipFill>
          <a:blip r:embed="rId5"/>
          <a:stretch/>
        </p:blipFill>
        <p:spPr>
          <a:xfrm>
            <a:off x="5638680" y="52578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e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d.      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 so s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难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 be s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u=780635294,451535271&amp;fm=23&amp;gp=0"/>
          <p:cNvPicPr/>
          <p:nvPr/>
        </p:nvPicPr>
        <p:blipFill>
          <a:blip r:embed="rId1"/>
          <a:stretch/>
        </p:blipFill>
        <p:spPr>
          <a:xfrm>
            <a:off x="5105520" y="1676520"/>
            <a:ext cx="2695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拼一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ang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    g      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, h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      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6-11-13T12:53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